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026-D5DF-4F23-8A5B-E1E0C690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BBA-05C1-41FF-BDF0-5460DCA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73C-24CC-4757-BEFA-8E960B1C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69A-27AC-4AC9-8972-D5DEB670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003-1E39-435E-A005-6E0D2D51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352-CFA9-41C9-937E-ECCA3A23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668-BDF6-4AB1-A8B4-5087587C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880-44F0-4056-B171-C443AC39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35A-F334-4986-9052-6A4F7811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BED-D3A2-4215-B8D6-B7D079AF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9CD-08DE-493D-BCAE-6E6940C8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36C-705E-4CF4-BE96-2BA3D26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723B-A018-4476-B0BD-6A7003B88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2960" y="5778360"/>
            <a:ext cx="523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- - et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25509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acce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3160800"/>
            <a:ext cx="1195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a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28558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1640" y="2550960"/>
            <a:ext cx="7747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ry 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34653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nger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37702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r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0200" y="33130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0200" y="36180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0200" y="39225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gene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0200" y="42274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spa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10200" y="45324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10200" y="48369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51418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 ma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10200" y="20937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atis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0200" y="23986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0200" y="11793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occup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14842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ri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10200" y="17892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rr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0200" y="27036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10200" y="30081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licate/Tric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5480" y="1179360"/>
            <a:ext cx="774720" cy="427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5815080"/>
            <a:ext cx="63248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+ et +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100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100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mark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9920" y="1449360"/>
            <a:ext cx="1195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i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9920" y="2058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4520" y="2978280"/>
            <a:ext cx="906480" cy="90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ery 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1449360"/>
            <a:ext cx="7729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9920" y="23637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moge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9920" y="26686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992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992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9920" y="3583080"/>
            <a:ext cx="1195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9920" y="40402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9920" y="4344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tis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9920" y="4649760"/>
            <a:ext cx="1195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nd/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1000" y="35830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22360" y="5935320"/>
            <a:ext cx="6424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en évol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17680" y="1359000"/>
            <a:ext cx="5719680" cy="3938400"/>
            <a:chOff x="1417680" y="1359000"/>
            <a:chExt cx="5719680" cy="3938400"/>
          </a:xfrm>
        </p:grpSpPr>
        <p:sp>
          <p:nvSpPr>
            <p:cNvPr id="81" name=""/>
            <p:cNvSpPr/>
            <p:nvPr/>
          </p:nvSpPr>
          <p:spPr>
            <a:xfrm>
              <a:off x="1417680" y="4622760"/>
              <a:ext cx="213228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nsistently 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+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49960" y="4611600"/>
              <a:ext cx="1266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g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17680" y="41623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49960" y="41544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7680" y="37051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t a standst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- or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49960" y="36972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on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17680" y="2797200"/>
              <a:ext cx="213228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49960" y="27828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eak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17680" y="1359000"/>
              <a:ext cx="2132280" cy="14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Getting consistant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-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9960" y="1359000"/>
              <a:ext cx="1266480" cy="50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 cou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9960" y="32400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9960" y="1868400"/>
              <a:ext cx="12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ling ap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49960" y="2173320"/>
              <a:ext cx="126648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erior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600" y="14875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tre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48600" y="17924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ortant/Gr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600" y="20970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600" y="24019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600" y="27068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ma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600" y="33163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nsider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8600" y="48402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8600" y="36212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8600" y="39258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d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8600" y="42307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tice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8600" y="45356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48600" y="30114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termes de hiérarchis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160" y="368280"/>
            <a:ext cx="8651880" cy="5486400"/>
            <a:chOff x="281160" y="368280"/>
            <a:chExt cx="8651880" cy="5486400"/>
          </a:xfrm>
        </p:grpSpPr>
        <p:sp>
          <p:nvSpPr>
            <p:cNvPr id="108" name=""/>
            <p:cNvSpPr/>
            <p:nvPr/>
          </p:nvSpPr>
          <p:spPr>
            <a:xfrm>
              <a:off x="281160" y="1739880"/>
              <a:ext cx="1266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plain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160" y="3111480"/>
              <a:ext cx="12664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f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Si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ca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5320" y="1739880"/>
              <a:ext cx="1266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consequence of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35320" y="3111480"/>
              <a:ext cx="126684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s a res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nsequen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eref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w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the rea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680" y="1739880"/>
              <a:ext cx="14079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opposed to another idea, or make a con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87680" y="3111480"/>
              <a:ext cx="1407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ven 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Howe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Neverth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ther h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cep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Despite the fac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spit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739880"/>
              <a:ext cx="14068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situated in time compared with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6160" y="3111480"/>
              <a:ext cx="14068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 of all….Second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ly… Las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itially… Then…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ne hand… On the 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Yesterday, Today, Tomorr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9640" y="1739880"/>
              <a:ext cx="1265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added to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9640" y="3111480"/>
              <a:ext cx="12654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qu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urtherm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More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d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l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s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op of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1840" y="1739880"/>
              <a:ext cx="13366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final outcome of previous id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840" y="3111480"/>
              <a:ext cx="13366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bal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When all is said and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rief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 nutsh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concl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o sum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7160" y="368280"/>
              <a:ext cx="26020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 idea can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0" idx="4"/>
              <a:endCxn id="116" idx="0"/>
            </p:cNvCxnSpPr>
            <p:nvPr/>
          </p:nvCxnSpPr>
          <p:spPr>
            <a:xfrm>
              <a:off x="4498920" y="977400"/>
              <a:ext cx="22550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20" idx="4"/>
              <a:endCxn id="118" idx="0"/>
            </p:cNvCxnSpPr>
            <p:nvPr/>
          </p:nvCxnSpPr>
          <p:spPr>
            <a:xfrm>
              <a:off x="4498920" y="977400"/>
              <a:ext cx="8121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20" idx="4"/>
              <a:endCxn id="110" idx="0"/>
            </p:cNvCxnSpPr>
            <p:nvPr/>
          </p:nvCxnSpPr>
          <p:spPr>
            <a:xfrm flipH="1">
              <a:off x="3867840" y="977400"/>
              <a:ext cx="63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0" idx="4"/>
              <a:endCxn id="114" idx="0"/>
            </p:cNvCxnSpPr>
            <p:nvPr/>
          </p:nvCxnSpPr>
          <p:spPr>
            <a:xfrm>
              <a:off x="4498560" y="977400"/>
              <a:ext cx="37314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4"/>
              <a:endCxn id="108" idx="0"/>
            </p:cNvCxnSpPr>
            <p:nvPr/>
          </p:nvCxnSpPr>
          <p:spPr>
            <a:xfrm flipH="1">
              <a:off x="913680" y="977400"/>
              <a:ext cx="3585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0" idx="4"/>
              <a:endCxn id="112" idx="0"/>
            </p:cNvCxnSpPr>
            <p:nvPr/>
          </p:nvCxnSpPr>
          <p:spPr>
            <a:xfrm flipH="1">
              <a:off x="2391840" y="977400"/>
              <a:ext cx="21074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08" idx="2"/>
              <a:endCxn id="109" idx="0"/>
            </p:cNvCxnSpPr>
            <p:nvPr/>
          </p:nvCxnSpPr>
          <p:spPr>
            <a:xfrm>
              <a:off x="9140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2" idx="2"/>
              <a:endCxn id="113" idx="0"/>
            </p:cNvCxnSpPr>
            <p:nvPr/>
          </p:nvCxnSpPr>
          <p:spPr>
            <a:xfrm>
              <a:off x="23918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10" idx="2"/>
              <a:endCxn id="111" idx="0"/>
            </p:cNvCxnSpPr>
            <p:nvPr/>
          </p:nvCxnSpPr>
          <p:spPr>
            <a:xfrm>
              <a:off x="38682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18" idx="2"/>
              <a:endCxn id="119" idx="0"/>
            </p:cNvCxnSpPr>
            <p:nvPr/>
          </p:nvCxnSpPr>
          <p:spPr>
            <a:xfrm>
              <a:off x="53100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16" idx="2"/>
              <a:endCxn id="117" idx="0"/>
            </p:cNvCxnSpPr>
            <p:nvPr/>
          </p:nvCxnSpPr>
          <p:spPr>
            <a:xfrm>
              <a:off x="675288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14" idx="2"/>
              <a:endCxn id="115" idx="0"/>
            </p:cNvCxnSpPr>
            <p:nvPr/>
          </p:nvCxnSpPr>
          <p:spPr>
            <a:xfrm>
              <a:off x="82292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94972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insis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24200" y="503280"/>
            <a:ext cx="5879520" cy="5255640"/>
            <a:chOff x="1924200" y="503280"/>
            <a:chExt cx="5879520" cy="5255640"/>
          </a:xfrm>
        </p:grpSpPr>
        <p:sp>
          <p:nvSpPr>
            <p:cNvPr id="135" name=""/>
            <p:cNvSpPr/>
            <p:nvPr/>
          </p:nvSpPr>
          <p:spPr>
            <a:xfrm>
              <a:off x="1924200" y="4247640"/>
              <a:ext cx="184752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would like to see corrective action ta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6120" y="42526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desirable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4200" y="1655280"/>
              <a:ext cx="1847520" cy="25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request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6120" y="164592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best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24200" y="509400"/>
              <a:ext cx="184752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insist strongly on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6120" y="503280"/>
              <a:ext cx="2391840" cy="42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imperative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08400" y="2429280"/>
              <a:ext cx="895320" cy="85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ithout f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hatic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solute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gorous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86120" y="931680"/>
              <a:ext cx="239184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necessary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6120" y="39477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6120" y="2374560"/>
              <a:ext cx="2391840" cy="33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6120" y="27284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6120" y="30333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6120" y="36428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v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33382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6120" y="48621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ould li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6120" y="51670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gg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6120" y="45572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cou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6120" y="1942920"/>
              <a:ext cx="239184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86120" y="1265040"/>
              <a:ext cx="2391840" cy="38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86120" y="54716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4584600"/>
            <a:ext cx="61214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urg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27640" y="2533320"/>
            <a:ext cx="192888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media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thout further d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short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pid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end of th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fore the next financial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s soon as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year-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medium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long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10:04:09Z</dcterms:modified>
  <cp:revision>79</cp:revision>
  <dc:subject/>
  <dc:title>Présentation PowerPoint</dc:title>
</cp:coreProperties>
</file>